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3D6-FADE-4036-B8B5-8B150AB1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06B-0E16-4315-BF1E-20F7094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A1E-09E1-4066-B870-841BB543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9C2-7656-4FB4-B6F8-B0FF344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DA9D-47BB-4309-811A-4A009B0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C459-F667-4D7B-91C0-C3B21F3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795-9997-4DA3-8E54-FB0C7A3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D41-77AA-473F-879F-FCF6332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87A-82DC-4E35-A5BD-C81F09AE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6D0-2731-4969-B396-63B0B5C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6A2-E73D-4206-BB2A-34367921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7C6-799E-45E0-97FC-D837845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BF6-CD38-43B7-936B-EE474F6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E9B-5DEF-4340-9526-FB6A913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900-3EB9-47AF-A3B0-8749F98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4EC7-F77B-4EC3-A029-EEA6AAF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75B4-183C-434B-BFBE-A3234EF8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18D-6CB0-471F-9888-2ECE38A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2B6-6DCE-4B14-9BF0-08463838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4A1-11FC-4880-8641-10B830C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4D0-4C17-4CFC-9C3C-E1E1ECD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EE0-6E26-4769-9743-647D93B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FCA-2226-4485-8626-41CABFD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06B-3692-451C-BC45-0CFF0647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D82-DC12-48EB-A2B0-9094C335F9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DAB6-6B2B-4842-B548-54E05C4BF42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By: Katia Wag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2619360"/>
            <a:ext cx="7238880" cy="4238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43000" y="380880"/>
            <a:ext cx="5105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Cell 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2666880" y="6858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Vacuol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3638520"/>
            <a:ext cx="4495680" cy="3219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5029200" y="1905120"/>
            <a:ext cx="3333600" cy="2619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75376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Kristen ITC"/>
              </a:rPr>
              <a:t>Nucleus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62120" y="0"/>
            <a:ext cx="437184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"/>
              </a:rPr>
              <a:t>Nucle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4114800" cy="2857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8:37:23Z</dcterms:created>
  <dc:creator>kwagner</dc:creator>
  <dc:description/>
  <dc:language>en-US</dc:language>
  <cp:lastModifiedBy>kwagner</cp:lastModifiedBy>
  <dcterms:modified xsi:type="dcterms:W3CDTF">2010-12-17T18:54:12Z</dcterms:modified>
  <cp:revision>4</cp:revision>
  <dc:subject/>
  <dc:title>My Cell Project</dc:title>
</cp:coreProperties>
</file>